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049-067A-4EE9-BC1B-2512CC03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E82-9BF0-49E2-BBAE-E5F9A329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374-6E49-43D6-8339-4027E055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AB3-1D75-4793-8189-DCC06E39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44D-180A-4240-8B5B-D78D4B69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A78-9D49-42D4-A9FA-15B96829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593-0EB3-4C28-B0F2-CA888C7A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B5D-1B4F-4253-ADB1-444A4BB6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119-56B7-4392-9A12-E483D534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34D-5A75-41A4-AE2A-D766835B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BED-0AA7-4FDD-A312-CE2419A7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283-9A76-4001-969C-906A7887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A97F-1841-49B8-B314-0DE03EE6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3:02:25Z</dcterms:created>
  <dc:creator>backup</dc:creator>
  <dc:description/>
  <dc:language>en-US</dc:language>
  <cp:lastModifiedBy>backup</cp:lastModifiedBy>
  <dcterms:modified xsi:type="dcterms:W3CDTF">2009-03-01T13:03:20Z</dcterms:modified>
  <cp:revision>1</cp:revision>
  <dc:subject/>
  <dc:title>Slide 1</dc:title>
</cp:coreProperties>
</file>